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9AB-DD23-48AD-85EF-D07948B4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DC6-63BA-4C9F-ABDA-6121459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88F-6827-47CE-A92A-B69E30B5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565-032A-4CCB-8BAA-14293413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51D-BB5C-4C5A-93B7-C95A24A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81D-0963-4ADC-AE24-8065F0D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DA5-C543-4A99-A943-CE132C8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98F-7CD7-4267-9D57-98D02B77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51E-74FF-49A9-8BBC-CF35599E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65B-12D9-411E-AD8B-1F1D21BD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415-905B-4AB6-8FE2-6FD43EA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063-06B2-4F86-9BD1-DBB0165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6D447-0E4E-426F-86C4-2A07D51F9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758CD-A6C2-4C37-BD7E-DE4C66047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800" y="387000"/>
            <a:ext cx="5710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aching Tip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9440" y="2401920"/>
            <a:ext cx="806148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Give your partner a tip/hint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Give your partner another tip/hint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Tell your partner the answe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 Ask your partner the question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basket ball.jpg"/>
          <p:cNvPicPr/>
          <p:nvPr/>
        </p:nvPicPr>
        <p:blipFill>
          <a:blip r:embed="rId1"/>
          <a:stretch/>
        </p:blipFill>
        <p:spPr>
          <a:xfrm>
            <a:off x="6083280" y="193680"/>
            <a:ext cx="28335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00:35:23Z</dcterms:created>
  <dc:creator>Molly Darnley</dc:creator>
  <dc:description/>
  <dc:language>en-US</dc:language>
  <cp:lastModifiedBy>Molly Darnley</cp:lastModifiedBy>
  <dcterms:modified xsi:type="dcterms:W3CDTF">2011-09-30T00:57:26Z</dcterms:modified>
  <cp:revision>5</cp:revision>
  <dc:subject/>
  <dc:title>Coaching Tips!</dc:title>
</cp:coreProperties>
</file>